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5635-D4C7-4B82-8202-EA088CA828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86A5-8D6A-48CB-A1F3-28E2BE14788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29F3-1461-430D-BF75-5DC6AB4589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D015-8916-439B-84F4-7DA13A9A57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1F5-DF98-4349-AF21-C71274C9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32A-6C7E-49FB-8952-98580006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CDB-A7AE-4022-9542-DC5EACE7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CF8-33CB-4873-8FDC-5A77558C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90A-F761-4297-BD14-4989EF78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29C-43B3-45DC-8D81-E2E636A0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343-818E-4CBD-AF95-1F0D3930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875-346D-476D-B51C-BDC66D21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144-5F13-4AF4-9C99-5B345619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487-4663-4272-9B6F-2E8D5ED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38A-2E01-433B-B0FF-36480E6D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867-7825-45BB-82F2-D451AD0A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96C5-387D-493A-B205-7892765155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odsumowanie pierwszego roku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dsumowanie informacji - popyt, podaż, kosz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Runda 1 i 2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tych rundach mogłe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brać lokalizację hotel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brać początkową liczbę poko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stalić cenę za pokój i rodzaj wyposażeni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nająć obsługę zajmującą się praniem i sprzątanie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uchomić stronę www hotel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jąć decyzję o sponsorowaniu festiwalu filmow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D:\Data\awinniczuk\AppData\Local\Microsoft\Windows\Temporary Internet Files\Content.IE5\OC6AOKSA\MP900442235[1].jpg"/>
          <p:cNvPicPr/>
          <p:nvPr/>
        </p:nvPicPr>
        <p:blipFill>
          <a:blip r:embed="rId1"/>
          <a:stretch/>
        </p:blipFill>
        <p:spPr>
          <a:xfrm>
            <a:off x="7524720" y="4076640"/>
            <a:ext cx="14335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Runda 3 i 4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tych rundach mogłeś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dostępnić dodatkowe usługi dla gości hotelowyc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brać dodatkowe formy promocji hotel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pewnić catering śniadaniowy dla gości hotel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nalizować swoje decyzje z wykorzystaniem raportu finansowego i raportu przepływów finans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D:\Data\awinniczuk\AppData\Local\Microsoft\Windows\Temporary Internet Files\Content.IE5\N3EJHAEY\MP900402816[1].jpg"/>
          <p:cNvPicPr/>
          <p:nvPr/>
        </p:nvPicPr>
        <p:blipFill>
          <a:blip r:embed="rId1"/>
          <a:stretch/>
        </p:blipFill>
        <p:spPr>
          <a:xfrm>
            <a:off x="6084720" y="5062680"/>
            <a:ext cx="16671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58294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opyt i podaż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1553760"/>
            <a:ext cx="820872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opyt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to ilość określonego dobra (usługi), jaką konsumenci są w stanie nabyć po określonej cenie i w określonym czas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odaż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to ilość określonego dobra (usługi) zaoferowana przez producentów (usługodawców) do sprzedaży po danej cenie w określonym czas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Jeżeli obie te funkcje sprowadzi się do postaci funkcji liniowej jednej zmiennej, to są to zależności pomiędzy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ceną a ilością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2"/>
          <p:cNvGrpSpPr/>
          <p:nvPr/>
        </p:nvGrpSpPr>
        <p:grpSpPr>
          <a:xfrm>
            <a:off x="1536840" y="4076280"/>
            <a:ext cx="5829120" cy="2026080"/>
            <a:chOff x="1536840" y="4076280"/>
            <a:chExt cx="5829120" cy="2026080"/>
          </a:xfrm>
        </p:grpSpPr>
        <p:sp>
          <p:nvSpPr>
            <p:cNvPr id="60" name="Tytuł 1"/>
            <p:cNvSpPr/>
            <p:nvPr/>
          </p:nvSpPr>
          <p:spPr>
            <a:xfrm>
              <a:off x="3384000" y="4076640"/>
              <a:ext cx="16182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3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ena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ytuł 1"/>
            <p:cNvSpPr/>
            <p:nvPr/>
          </p:nvSpPr>
          <p:spPr>
            <a:xfrm>
              <a:off x="1536840" y="5454360"/>
              <a:ext cx="58291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ałożenie: mamy do czynienia z dobrami normalnymi.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Down Arrow 9"/>
            <p:cNvSpPr/>
            <p:nvPr/>
          </p:nvSpPr>
          <p:spPr>
            <a:xfrm rot="10800000">
              <a:off x="4895640" y="4076280"/>
              <a:ext cx="485640" cy="539640"/>
            </a:xfrm>
            <a:prstGeom prst="downArrow">
              <a:avLst>
                <a:gd name="adj1" fmla="val 50000"/>
                <a:gd name="adj2" fmla="val 50014"/>
              </a:avLst>
            </a:prstGeom>
            <a:solidFill>
              <a:srgbClr val="21bd21"/>
            </a:solidFill>
            <a:ln w="25560">
              <a:solidFill>
                <a:srgbClr val="21bd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ytuł 1"/>
            <p:cNvSpPr/>
            <p:nvPr/>
          </p:nvSpPr>
          <p:spPr>
            <a:xfrm>
              <a:off x="2044800" y="4733280"/>
              <a:ext cx="16182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3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opyt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ytuł 1"/>
            <p:cNvSpPr/>
            <p:nvPr/>
          </p:nvSpPr>
          <p:spPr>
            <a:xfrm>
              <a:off x="4788360" y="4733280"/>
              <a:ext cx="16182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3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odaż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Down Arrow 12"/>
            <p:cNvSpPr/>
            <p:nvPr/>
          </p:nvSpPr>
          <p:spPr>
            <a:xfrm>
              <a:off x="3495600" y="4830840"/>
              <a:ext cx="485640" cy="5414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Down Arrow 13"/>
            <p:cNvSpPr/>
            <p:nvPr/>
          </p:nvSpPr>
          <p:spPr>
            <a:xfrm rot="10800000">
              <a:off x="6246720" y="4787280"/>
              <a:ext cx="485640" cy="539640"/>
            </a:xfrm>
            <a:prstGeom prst="downArrow">
              <a:avLst>
                <a:gd name="adj1" fmla="val 50000"/>
                <a:gd name="adj2" fmla="val 50014"/>
              </a:avLst>
            </a:prstGeom>
            <a:solidFill>
              <a:srgbClr val="21bd21"/>
            </a:solidFill>
            <a:ln w="25560">
              <a:solidFill>
                <a:srgbClr val="21bd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Rectangle 1"/>
          <p:cNvSpPr/>
          <p:nvPr/>
        </p:nvSpPr>
        <p:spPr>
          <a:xfrm>
            <a:off x="684360" y="1484280"/>
            <a:ext cx="8135640" cy="1657440"/>
          </a:xfrm>
          <a:prstGeom prst="rect">
            <a:avLst/>
          </a:prstGeom>
          <a:noFill/>
          <a:ln w="349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101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Koszty stałe i zmienne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69" name="Diagram 2" descr=""/>
          <p:cNvPicPr/>
          <p:nvPr/>
        </p:nvPicPr>
        <p:blipFill>
          <a:blip r:embed="rId1"/>
          <a:stretch/>
        </p:blipFill>
        <p:spPr>
          <a:xfrm>
            <a:off x="-66600" y="1395360"/>
            <a:ext cx="93931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15:43Z</dcterms:modified>
  <cp:revision>16</cp:revision>
  <dc:subject/>
  <dc:title>Slajd 1</dc:title>
</cp:coreProperties>
</file>